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532-859D-485D-9E75-15D2F4C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419-2790-450B-9C4B-926F2232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5B2-40E9-4104-B1D1-D5CF70EC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C18-B3AC-4573-94D4-C1534725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7D4B-D857-405A-B0AA-48CD5C15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CED5-D641-4B29-A30A-1A49475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1C4-F07B-4462-8836-0B862B5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B63E-BE62-41B9-84E8-516D5EAA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BEFD-7407-40C5-935D-890C5522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7232-FB24-40EA-85D0-4E821E6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5DE7-370F-4C7F-8096-7BE2EE1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128-034F-42E9-9AE8-5BB6E08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F548-3068-41FE-AA8E-6CF3D0D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77F9-E02E-4477-9571-10872EB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5BF8-2932-4005-85E3-B1459AAD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0E80-EB2E-4AC5-A377-6632B7FC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4E0-32DC-4940-83DC-482A1E8D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8E0-D94B-416D-B2DD-2E5B089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28E-07AA-44E2-B8AF-F8FF1CF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933-E625-494F-91C0-729F6D2A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661-7C45-45E0-9E27-7B02D8D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985-B5D4-4539-A265-E374B4E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CA2-E21F-4203-94FD-E7611DF3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CDF-E1B8-443B-9F7E-BE3BE77C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5A63-A782-4900-AB40-A2BF2EE95C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DED8-98F6-487B-92DA-E0CD577D17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Financ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voiding Pitfalls of Cred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d the fine print – especially before you 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igher interest rates of credit cards – consider a loan for larger purchases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hoosy – don’t apply for more than you actuall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s much as you can every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 an extra $10 will reduce your balance much faster than minimum pay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 bill at least 1 week before it’s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automatic payments for your monthly b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savings mode so you rarely need credit loans for purc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the back side of your previous assignment, you need to hand-write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one minute, list all the strategies you can think of to responsibly use credit.  If you want, wait for a partner so you can be timed. If you need a stopwatch, go to </a:t>
            </a:r>
            <a:r>
              <a:rPr b="0" lang="en-US" sz="23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online-stopwatch.com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ease don’t write for more than a minute. Don’t use your notes. Just try to remember and think and write all at the same time.  That’s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, you can turn in your pap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edit-related Record Keep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eep in your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rms of agre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document that accompanies your loan application that defines your rights &amp; responsibilities of the borrower &amp; cred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ip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o you can compare charges when your bills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thly statem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t least a year; tax-related items, such as tax returns (for 7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st of credit card numb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hone #s so you can quickly notify it if card is lost/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ark Cloud of Deb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debt can take its toll on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ffects future abil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can affect your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also is your spouse’s responsibility (leg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that deb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id of plastic – stop adding to your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ommitment to repay debt – after all, 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b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exactly how much you ow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epayment plan you can stic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 to reduce deb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ake additional money you have available &amp; pay off debt with smallest balanc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same payment amount to the card or loan with next smallest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is process until your debts ar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ncentrate on paying the debt with the highest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hod will save you more in interest charges over time, but progress is harder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both methods work, be patient &amp; per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of Independent Consumer Credit Counseling Agencies also will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nkrupt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ruptc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gal process to get out of debt when you can no longer make all your required payments. 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you to erase most of your debt. To qualify, you must be unemployed or have very low income. You must undergo financial couns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pter 1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you to repay many of your debts over time, usually no more than 5 years. Court oversees your re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debts are erased by bankrupt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loans, child support, alimony, penalties &amp; fines for crimes com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hanged bankruptcy la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much harder to declare Chapter 7 bankrupt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y stays on credit report for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 can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urt your Credit Scor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late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cing checks (writing a check even when you don’t have the money to cover the 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lot of credit cards an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 high balance on your credit cards an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redit cards 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unforeseen or unavoidable circumstances/misfortune (health care costs, 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sponsible borrowing &amp; defaulting on loans (not repay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Law &amp; Order of Deb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responsible for repaying you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ders have legal action agains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th in Lending Act requires lenders to tell you in writing the true interest rate &amp; finance charges before signing credi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can’t be misleading,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right to cancel within 3 days – assuming you return money borr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bt Collection Practices 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you from harassment by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 collectors can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abusive langu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l @ unreasonable hours (before 8 am &amp; after 9 pm) or excessive # ti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reaten to notify your employer or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empt to collect more than you ow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d you misleading letters that appear to be from gov’t agency or court of la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56:  Exercise 4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te the priorities of debt.  Don’t turn in, but will have a check on Thursday for participation poi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al 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new blank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header with title: My Plan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ssignment 4-1 on page 5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credit history &amp; reflect. Type up a reflection paragraph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lease double space – format, paragraph, double-space line spa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se a bulleted list to identify strategies to manage your credit.  Save, print, turn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at does your credit score reall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ot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bad credit  can still get approved – 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pay higher interest 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 a 1% higher in interest rate can have a huge effect on your budgeted fixed expen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Rights When your Credit Report is Wro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requires credit bureaus provide info regarding your credit history correctly &amp; completely (&amp; confidentiall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right to see everything in your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most of the time, who reported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ly review your credit report to ensure its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&amp; to check for fraudulent use of identity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 find inaccuracies: don’t pan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credit reporting ag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k representative to investigate inf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law, agency must investigate questionable item &amp; correct/delete anything that’s incorr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bureaus must delete unfavorable info that is more than 7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y info must be removed after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tting your piece of the Credit P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to get started with cred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an adult to co-sign a credit card application or car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he place where you have savings/checking account for a credit car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or a store cred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or a secured credit card (one that only has money pre-deposited into account for you to use) Similar to a debit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nting a place with friends, make sure at least one of the bills is in your name &amp; pay it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armen’s loan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iece of paper (you may type &amp; print it 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 reason why you would or would not approve Carmen’s lo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hat type of terms would you give? (length of loan with what type of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ustify why you chose to do th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to the Red Tray by printer. Be sure your name is in a header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redit is crucial to achieving your financi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way people mismanage credit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ver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asier to get into debt that to get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careful of your budget &amp; your expenses/inc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0-20-10 Ru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income should go to living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income should go to investments/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income should go to paying off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14:52Z</dcterms:created>
  <dc:creator>LDSD</dc:creator>
  <dc:description/>
  <dc:language>en-US</dc:language>
  <cp:lastModifiedBy>LDSD</cp:lastModifiedBy>
  <dcterms:modified xsi:type="dcterms:W3CDTF">2009-12-08T08:07:18Z</dcterms:modified>
  <cp:revision>14</cp:revision>
  <dc:subject/>
  <dc:title>Personal Finance Notes</dc:title>
</cp:coreProperties>
</file>